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.jpeg" ContentType="image/jpeg"/>
  <Override PartName="/ppt/media/image25.wmf" ContentType="image/x-wmf"/>
  <Override PartName="/ppt/media/image27.jpeg" ContentType="image/jpeg"/>
  <Override PartName="/ppt/media/image16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5.wmf" ContentType="image/x-wmf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22AC-3D05-47B8-9A1E-C8EB1ECEA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159F-3C25-4AF3-8E2F-8E6D9335AB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CACA2-05EB-4A8D-9289-6DE463E6C3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52EBB-0775-4E0B-90B0-D6456B74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6D5252-72D4-43F9-9204-14B48E31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5E6502-8237-4759-9CAF-9119933C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B57DCD-8658-406F-915E-773ED209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5B5414-C4EF-40FA-AAB5-A5A526DC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1A0E41-2152-4396-9987-245496E6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2DB3A0-CF57-4210-A36F-E9AF3433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8D781B-8AAF-4520-988A-0BE38249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DE2BFB-CC7E-47DB-AA38-CDAF84D9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B3483B-3AF0-45D6-8E1A-FDE39661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7E5391-B0DB-4B1A-9CCC-563757DE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4D657-83B9-4C64-9B7E-BCE68C6B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CBE212-989B-447D-ACBD-68026DBF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9A61E5-FCED-473E-8ACE-21E60D01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89AAFF-9841-4F01-894B-B24A7D82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8D88A4-E245-4EB2-A096-AEF7EEDA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DFBFFD-38CE-4578-8B1A-B5A48E31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692C0A-818E-43EB-AB81-17C5BEF5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1C51E7-C167-4737-94CA-3FC00E41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9EA262-55E7-43A0-8382-BB7FE8FF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D62C0E-A737-421D-87B4-9AD2FA5E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D90EC1-045A-4862-AA37-5A0AD73B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CDF8B-3834-46B2-9DFA-B100DCB1C0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FC0BCF-746E-499B-9B18-FB7E4C2B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DA067F-A3AD-48C9-B38E-3BBD8116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E00AC2-850D-4328-B6C4-5BB77900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49A1FA-8262-4740-A5C3-A1C0C111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D4D6E2-C017-4A46-A41E-FED08DBB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2611E1-92C3-4ED9-9D3C-DF7BA793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E13905-FC95-4CCD-A02E-87C5947A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5DFEDC-2801-421E-BB45-C4BC14CF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175977-F751-43B7-98E8-37E8E899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D473FF-6038-4556-835E-F4D716B2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49B7A-D86E-400C-A94F-49116D6FE2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9219F4-5395-4FEA-AE84-0580C533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91D3B6-5F04-4BA9-B028-73F2123C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55A25F-8AAC-4527-8ECA-D767CF42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FE7A7-A22E-42DC-9001-3D8D07AC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EDD0D-8B3C-4982-94C7-A9C01680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3854B-8F17-42B3-A56F-E935D242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95236-8EF3-4145-A0F9-65B6017F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17E43-817E-43A5-A23A-328359D7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6058B-D1BE-4555-A205-D125ED27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23E8B-00C0-42F9-B70F-605A776A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A8FB5-17AB-414E-B99C-1DE54FF1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3725A-FC82-42D2-9A51-BBF6A829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4C31D-4458-4A12-9FF8-E52560D8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76656-3C45-4B8A-BD2C-78D63193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046D7-6B49-4D74-AC03-0BB38A4BA4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9D232E-6BDA-4C68-9F8B-2678772A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2358FB-C544-4A04-BBD8-71EDD830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1AA2B3-5744-4350-9D9A-C6101492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3B4908-C631-4C3B-8093-4B9333D4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7271E7-9A9A-45AC-B511-A5D28FDF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1FA0F-3A5C-4F56-B3D3-101D5241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7D1526-F2C6-4FD2-8E45-F4276DF8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5A431F-B6B2-4E4C-A9EF-7F14FB7A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9B064F-A384-41B5-BDD4-1157234F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6D1ACF-ADF4-4209-A47F-E38FF59B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7CAE93-1751-4A8B-A190-9F150719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BB4326-F69E-4C37-8DBC-07D0D87A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2104C8-6C61-4AC3-AEDE-9777EBF9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FF5935-A883-40D2-A12F-A5835EEA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1C52AB-DC6B-405F-B9F6-479E32B3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652F76-6D62-403E-B2FF-987F8EA5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86F86-5DB6-47E0-BBC0-84FDE1F1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B5C87C-4857-48B2-B7A9-3D006919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4FCDAD-3A6E-47A9-A421-C383DC18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38C64F-DCC6-4770-9DAF-FDAAA8B7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96A5E8-4DA1-4CE6-8A69-7C3F00FD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F19374-85D9-4644-ADF8-FBF24FE0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5B08CD-5171-495D-94EE-E155E0BB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338E27-D1FA-450B-89D9-4DBE217E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44E80A-D0B0-400C-A172-182D2C4D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3AFF74-F787-42E3-B5E4-A93C29B8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E62B69-E5E3-42E0-9077-920EE65C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BACB1-D7E3-4C8A-BD79-2D01367A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198C4D-9AC7-463D-97C7-096087F0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B390C0-6FBB-40E2-A0E0-28DDF545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72EE44-4081-4A18-82C8-5BD02900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9D47E1-F249-42F2-8583-DAF50F5B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0F215F-6AC5-4575-B335-56796A62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AF9D37-D07C-45D3-A2CC-57D9E6E5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114D03-61BA-48E0-A952-2676D328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3ABF96-5DB0-4B68-92FB-FA3808A1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276292-C13E-4A4F-ABA9-C933E0A0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4DF8CF-BC66-4B04-BC14-C724CC8DD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44BF3-E709-4E5C-B5E8-5FBF2DCD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F4E8CA-55F0-44FD-AF66-C7037588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E380D7-969F-44AE-AD15-7D237657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4A86EA-B0E1-4BD7-B137-9467C647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7E2527-F980-44DA-91B7-FFE58620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5638DD-CB28-4C13-A4E6-9DD06360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62351C-ECD7-471F-8B6F-F77B8AEB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F1A6DD-4539-436C-B066-1FE15BD7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77ACAD-9CE6-4F98-A0CB-8A0E88BB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FD6A86-19D8-48F5-9660-11A407D2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FED121-5C17-420E-9631-2AB2F10F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ABABD-AC32-4051-B7FE-2CD9139F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356561-59B0-4CB2-97D0-EE5E15C1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CDAFC9-FCF4-4D06-AEFE-5CF4C29D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0D02E1-62EB-4EB0-98BA-616B88E5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CC7551-3D8C-4C77-8E9E-5BD84051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2B5F75-C97A-4B05-A691-10072C8D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FF8338-0CAD-4613-836F-B9D52702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16F932-4E35-4FD0-AAA9-DFD5EE43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0072D9-2D59-4270-9EA5-B55429FD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4B5680-23B1-4E88-933E-86379EDA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773576-B682-4A26-B750-EE07B6EB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6BEFF-E985-4559-969F-179C89C1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155536-9C69-49CC-AC94-E382B7F6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A67577-54F6-4723-955B-5C41B10A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E65A7E-FC5B-4311-8A54-D09CC7DF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595C8D-C042-4150-B2B7-FFF27B8A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E5FD02-E311-4DC5-B345-4D8B6095D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037D80-F9FA-4A28-A33D-2CBF63F7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B2ECAB-2159-44A3-AF56-70E65313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551D3D-15D2-40CC-BFC1-2FBBA06A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616591-8200-436B-AF7E-DB1A75B7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A070C9-A98F-4FA4-85B8-16EF7126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1D235-7341-4134-A944-F62C610C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1DC0C0-F2CF-4D03-BA47-D3DFAE29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439272-6602-482E-8B5C-FDE091C9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18E21F-C780-47F2-A348-F39835DF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70E054-D2BD-4B24-8E59-552E562D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5471A7-ED2F-411D-93EB-3176F525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FDFC99-DF85-4B90-86CD-73A530AB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F6FFBF-22D8-4743-9A86-C105EF0C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97077D-B25A-4F19-BCCB-C90A0F9A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CC55D3-0E20-4863-A27E-1A42581A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56F8ED-284A-4CEB-AEF2-770A1C7F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2267-BCD4-4DF8-A10D-279AEA7937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25E5-FC9C-43D0-A4D2-819F72079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4B15-A490-4310-8C43-7825C42496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DE59-9AD4-4D23-A810-F20CE5EA3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8357-9F0F-4E25-BB32-0AC81BE220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E0CD-2302-4569-BDDE-68522DCA9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Łącznik prosty 6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F45C-604C-4109-B129-C9481BBCBE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37AF-88C6-453B-9C76-DBF152FE0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8EC9-9BB3-4AC1-8FD6-69C84646A0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F2F7-6E7F-43C5-9624-B23A66472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Łącznik prosty 6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FF9A-69A0-4F36-B3AE-606253F2CE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ABFA-6C41-4A99-A090-DCA16A215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462A-F7B7-4DCC-891E-00E6E1D1FC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9155-45D2-4DE8-AF9C-682516457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298E-A6C9-4E32-864D-2E715FA2D2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7414-6D37-4F98-965F-B1B8B5837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F4ED-5627-45AF-AB18-BAC14BEBE8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D9F2-F2F5-4A23-BC9D-4FA1977F7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5D32-6420-4D15-A9F8-05EFC88D66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8620-4FC3-4199-B6E2-101ECDE9E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1A5F-CE50-40E1-B628-CC4B7F17FC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1D3B-96DE-4D24-ACE6-61FA78898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3" descr=""/>
          <p:cNvPicPr/>
          <p:nvPr/>
        </p:nvPicPr>
        <p:blipFill>
          <a:blip r:embed="rId1"/>
          <a:stretch/>
        </p:blipFill>
        <p:spPr>
          <a:xfrm>
            <a:off x="0" y="0"/>
            <a:ext cx="2800440" cy="13572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5" descr="UE+EFS_L-kolor"/>
          <p:cNvPicPr/>
          <p:nvPr/>
        </p:nvPicPr>
        <p:blipFill>
          <a:blip r:embed="rId2"/>
          <a:stretch/>
        </p:blipFill>
        <p:spPr>
          <a:xfrm>
            <a:off x="6659640" y="404640"/>
            <a:ext cx="2098440" cy="770040"/>
          </a:xfrm>
          <a:prstGeom prst="rect">
            <a:avLst/>
          </a:prstGeom>
          <a:ln w="0">
            <a:noFill/>
          </a:ln>
        </p:spPr>
      </p:pic>
      <p:sp>
        <p:nvSpPr>
          <p:cNvPr id="460" name="Tytuł 1"/>
          <p:cNvSpPr/>
          <p:nvPr/>
        </p:nvSpPr>
        <p:spPr>
          <a:xfrm>
            <a:off x="0" y="1214280"/>
            <a:ext cx="91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Sytuacja i oczekiwan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pracodawców w powieci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olsztyński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9" descr=""/>
          <p:cNvPicPr/>
          <p:nvPr/>
        </p:nvPicPr>
        <p:blipFill>
          <a:blip r:embed="rId3"/>
          <a:stretch/>
        </p:blipFill>
        <p:spPr>
          <a:xfrm>
            <a:off x="3429000" y="3143160"/>
            <a:ext cx="2357280" cy="2489400"/>
          </a:xfrm>
          <a:prstGeom prst="rect">
            <a:avLst/>
          </a:prstGeom>
          <a:ln w="0">
            <a:noFill/>
          </a:ln>
        </p:spPr>
      </p:pic>
      <p:pic>
        <p:nvPicPr>
          <p:cNvPr id="462" name="Obraz 14" descr=""/>
          <p:cNvPicPr/>
          <p:nvPr/>
        </p:nvPicPr>
        <p:blipFill>
          <a:blip r:embed="rId4"/>
          <a:stretch/>
        </p:blipFill>
        <p:spPr>
          <a:xfrm>
            <a:off x="428760" y="5929200"/>
            <a:ext cx="842760" cy="59688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3"/>
          <p:cNvSpPr/>
          <p:nvPr/>
        </p:nvSpPr>
        <p:spPr>
          <a:xfrm>
            <a:off x="1746360" y="5930640"/>
            <a:ext cx="469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ojekt Urzędu Pracy Powiatu Olsztyńskiego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Kwalifikacje Twoim kapitałem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spó</a:t>
            </a:r>
            <a:r>
              <a:rPr b="1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łf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ansowany przez Unię Europejską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7"/>
          <p:cNvSpPr/>
          <p:nvPr/>
        </p:nvSpPr>
        <p:spPr>
          <a:xfrm>
            <a:off x="6732720" y="4508640"/>
            <a:ext cx="18763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Realizacj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Obraz 11" descr="BioStat - Logo"/>
          <p:cNvPicPr/>
          <p:nvPr/>
        </p:nvPicPr>
        <p:blipFill>
          <a:blip r:embed="rId5"/>
          <a:stretch/>
        </p:blipFill>
        <p:spPr>
          <a:xfrm>
            <a:off x="6804000" y="4869000"/>
            <a:ext cx="1486080" cy="25380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20"/>
          <p:cNvSpPr/>
          <p:nvPr/>
        </p:nvSpPr>
        <p:spPr>
          <a:xfrm>
            <a:off x="6732720" y="5157720"/>
            <a:ext cx="200016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www.bio</a:t>
            </a:r>
            <a:r>
              <a:rPr b="0" lang="pl-PL" sz="1200" spc="-1" strike="noStrike">
                <a:solidFill>
                  <a:srgbClr val="c00000"/>
                </a:solidFill>
                <a:latin typeface="Berlin Sans FB Demi"/>
              </a:rPr>
              <a:t>s</a:t>
            </a: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tat.com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9CFC-F0AD-4EDB-8401-7F3CDE42B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ole tekstowe 6"/>
          <p:cNvSpPr/>
          <p:nvPr/>
        </p:nvSpPr>
        <p:spPr>
          <a:xfrm>
            <a:off x="1619280" y="1989000"/>
            <a:ext cx="619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Funkcjonowanie badanych przedsiębiorst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Kondycja przedsiębiorst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3A28-8A5C-4FB9-BEC6-D33638950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ole tekstowe 6"/>
          <p:cNvSpPr/>
          <p:nvPr/>
        </p:nvSpPr>
        <p:spPr>
          <a:xfrm>
            <a:off x="1000080" y="171468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a liczba badanych – 40,9% – wskazała na  średni poziom kondycji przedsiębiorstwa (ani dobra, ani zła).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nad 37% przedsiębiorców określiło kondycję swojej firmy jako dobrą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357200" y="3143160"/>
            <a:ext cx="700092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rognozowany popyt na produkty/usługi przedsiębiorst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2540-9A1D-4277-AB4F-303A5AA89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ole tekstowe 6"/>
          <p:cNvSpPr/>
          <p:nvPr/>
        </p:nvSpPr>
        <p:spPr>
          <a:xfrm>
            <a:off x="1000080" y="171468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badanych (29,2%) uznał, iż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pyt w ich firmie w przeciągu najbliższych 12 miesięcy nie ulegnie zmia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428840" y="2786040"/>
          <a:ext cx="6786360" cy="2855880"/>
        </p:xfrm>
        <a:graphic>
          <a:graphicData uri="http://schemas.openxmlformats.org/drawingml/2006/table">
            <a:tbl>
              <a:tblPr/>
              <a:tblGrid>
                <a:gridCol w="5286240"/>
                <a:gridCol w="1500120"/>
              </a:tblGrid>
              <a:tr h="444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wskaza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szybciej niż ter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w tym samym temp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wolnie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taki sam jak ter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niższ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udno powiedzie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gół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Wpływ recesji gospodarczej na funkcjonowanie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573B-8962-437E-AD5E-AB975B7EA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ole tekstowe 6"/>
          <p:cNvSpPr/>
          <p:nvPr/>
        </p:nvSpPr>
        <p:spPr>
          <a:xfrm>
            <a:off x="1000080" y="171468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Około 47% respondentów uznało, iż recesja gospodarcza miała wpływ na funkcjonowanie ich przedsiębiors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1143000" y="2714760"/>
            <a:ext cx="72928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Czynniki wpływające na rozwój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D082-A0B9-411F-A1AB-0A5B0AC81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ole tekstowe 6"/>
          <p:cNvSpPr/>
          <p:nvPr/>
        </p:nvSpPr>
        <p:spPr>
          <a:xfrm>
            <a:off x="1000080" y="171468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liczniejsza grupa respondentów uznała, iż 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czynnik finansow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łby rozwój ich przedsiębiorstwa. Niemalże równie istotny wpływ na rozwój firmy, zdaniem respondentów mają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czynniki gospodarc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500120" y="3071880"/>
            <a:ext cx="66438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Bariery w rozwoju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6B33-0E55-4F3D-BC86-1A0749B2C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ole tekstowe 6"/>
          <p:cNvSpPr/>
          <p:nvPr/>
        </p:nvSpPr>
        <p:spPr>
          <a:xfrm>
            <a:off x="1143000" y="2143080"/>
            <a:ext cx="657216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Najpoważniejsze przeszkody w procesie rozwoju, jakie wskazują pracodawcy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Bariera finansowa, czyli brak środków na podjęcie konkretnych działa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Biurokracja ograniczająca rozwój podmiotów gospodarcz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Zbyt mała ilość klientów i duża konkurencja na ryn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011B-CE0E-4DF9-9E00-A218A2824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ole tekstowe 6"/>
          <p:cNvSpPr/>
          <p:nvPr/>
        </p:nvSpPr>
        <p:spPr>
          <a:xfrm>
            <a:off x="1000080" y="521496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ostatnich dwóch lat poprzedzających badanie,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nowych pracowników przyjęło 43,0% objętych badaniem firm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tomiast 57,0% respondentów odpowiedziało, że w ciągu ostatnich dwóch lat nie przyjmowali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759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2AAD-E7C8-46C8-B630-9A094BE30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ole tekstowe 6"/>
          <p:cNvSpPr/>
          <p:nvPr/>
        </p:nvSpPr>
        <p:spPr>
          <a:xfrm>
            <a:off x="971640" y="1916280"/>
            <a:ext cx="735804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badanych przedsiębiorców przyjęło nowych pracowników na zasadzi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y o pracę na czas określon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anowisko takie zadeklarowało 53,0% badany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5,0% respondentów  zatrudniło nowych pracowników w oparciu o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ę na czas nieokreślo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nad 56% respondentów uważa, że zatrudnieni przez nich pracownicy posiadali wykształcenie adekwatne do wykonywanego przez nich zawo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30E5-B407-4C23-AB94-E6CD53164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ole tekstowe 6"/>
          <p:cNvSpPr/>
          <p:nvPr/>
        </p:nvSpPr>
        <p:spPr>
          <a:xfrm>
            <a:off x="714240" y="2000160"/>
            <a:ext cx="735804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grupie badanych 500 przedsiębiorstw, w ciągu ostatnich dwóch lat zatrudnio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2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ków kadry zarządzając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stanowiska specjalistyczn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jęto 185 osó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ako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średni personel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trudniono 167 osó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decydowanie liczniejszą grupę stanowili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usług osobistych i sprzedawc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301 osó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Z przeprowadzonej ankiety wynika, że większość nowoprzyjętych pracowników (875 osób) stanowiły osoby wykonujące prace pro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6333-3D54-4AEC-B0EC-E66074711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ole tekstowe 6"/>
          <p:cNvSpPr/>
          <p:nvPr/>
        </p:nvSpPr>
        <p:spPr>
          <a:xfrm>
            <a:off x="714240" y="18572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nowo zatrudnionych pracowników stanowiły osoby w przedziale wiekowym 25-34 l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1071720" y="2749680"/>
            <a:ext cx="7143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1f497d"/>
                </a:solidFill>
                <a:latin typeface="Arial"/>
              </a:rPr>
              <a:t>Cel bad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Badanie lokalnego rynku pracy na terenie powiatu olsztyńskiego, miało na celu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  <a:ea typeface="Arial"/>
              </a:rPr>
              <a:t>zdiagnozowanie zapotrzebowania pracodawców na kwalifikacje i umiejętności zawodowe kandydatów do pracy  oraz usługi i instrumenty rynku pra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Cele szczegółowe projektu t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Analiza sytuacji na lokalnym rynku pracy, jego dynamiki oraz kierunków zmi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kreślenie  popytu na pracę w odniesieniu do ilości tworzonych przez pracodawców miejsc pracy posiadanych ofert pracy oraz pożądanych kwalifikacji i umiejętności zawodowych kandydatów do pra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kreślenie zapotrzebowania pracodawców na usługi i instrumenty rynku pracy realizowane przez urząd</a:t>
            </a:r>
            <a:r>
              <a:rPr b="0" lang="pl-P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25FD-FF27-4AFD-BF6E-AD9467E77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8555-947E-44ED-9036-1E9A4C222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ole tekstowe 6"/>
          <p:cNvSpPr/>
          <p:nvPr/>
        </p:nvSpPr>
        <p:spPr>
          <a:xfrm>
            <a:off x="684360" y="1916280"/>
            <a:ext cx="799128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40% pracodawców zatrudniło w ciągu ostatnich dwóch lat absolwentów szkół, osoby uczące się oraz osoby powyżej 50 roku życ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drugim biegunie znajdują się osoby niepełnosprawne, które w ostatnich dwóch latach zatrudniło tylko nieco ponad 8% pracodawc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1071720" y="3357720"/>
            <a:ext cx="71434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D46A-31EE-4985-A780-03AD27151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ole tekstowe 6"/>
          <p:cNvSpPr/>
          <p:nvPr/>
        </p:nvSpPr>
        <p:spPr>
          <a:xfrm>
            <a:off x="714240" y="185724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zatrudnionych osób stanowiły osoby z wykształceniem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zasadniczym zawodowym oraz średnim zawodowy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69296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zwolnień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9024-C6E9-4D72-A2A0-C79E4B2F7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ole tekstowe 7"/>
          <p:cNvSpPr/>
          <p:nvPr/>
        </p:nvSpPr>
        <p:spPr>
          <a:xfrm>
            <a:off x="785880" y="1643040"/>
            <a:ext cx="7572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77 pracodawców zwalniało pracowników w ciągu ostatnich dwóch lat. Łącznie zwolnili oni 403 osob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65% osób zwolnionych w ciągu ostatnich dwóch lat to właśnie pracownicy stanowisk przy pracach prostych, usług osobistych i sprzedaw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mal dwukrotnie częściej dochodzi do zwalniania mężczyzn niż kobiet, co może wiązać się z większą ruchliwością mężczyzn na rynku pra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jwięcej firm zwalniało osoby w przedziale wiekowym między 35 a 44 rokiem ży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decydowana większość spośród zwolnionych z pracy, tj. 52% to osoby powyżej 50 roku ży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jrzadziej zwalnianymi przez pracodawców były osoby niepełnosprawne oraz kobiety, które urodziły dziecko, łącznie obie grupy stanowiły 8,6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61FF-F5C9-4C86-88B9-459D08119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ole tekstowe 6"/>
          <p:cNvSpPr/>
          <p:nvPr/>
        </p:nvSpPr>
        <p:spPr>
          <a:xfrm>
            <a:off x="785880" y="1989000"/>
            <a:ext cx="7358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Ewaluacja potrzeb szkoleniowych </a:t>
            </a:r>
            <a:br>
              <a:rPr sz="4800"/>
            </a:b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w badanych przedsiębiorstwa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wykształc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28C8-DE96-46AD-9116-2EC52D328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ole tekstowe 6"/>
          <p:cNvSpPr/>
          <p:nvPr/>
        </p:nvSpPr>
        <p:spPr>
          <a:xfrm>
            <a:off x="785880" y="185724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co ponad 40% przedstawicieli badanych przedsiębiorstw z powiatu olsztyńskiego wskazało, że dominującym wykształceniem wśród ich pracowników jest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wykształcenie średnie ogólnokształcą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1214280" y="3214800"/>
            <a:ext cx="7047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ziom zadowolenia z wykształc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1069-B811-4673-9B8F-5F26FFE0D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ole tekstowe 6"/>
          <p:cNvSpPr/>
          <p:nvPr/>
        </p:nvSpPr>
        <p:spPr>
          <a:xfrm>
            <a:off x="857160" y="5286240"/>
            <a:ext cx="7358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decydowana większość badanych odpowiedziała, że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jest zadowolona z wykształcenia i umiejętności swoich pracownik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1228680" y="1785960"/>
            <a:ext cx="69325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godność wykształcenia pracowników </a:t>
            </a:r>
            <a:br>
              <a:rPr sz="3200"/>
            </a:b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 wykonywanym zawod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E51C-A0F5-4AA7-99CA-04AF70477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ole tekstowe 6"/>
          <p:cNvSpPr/>
          <p:nvPr/>
        </p:nvSpPr>
        <p:spPr>
          <a:xfrm>
            <a:off x="857160" y="52862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60% przedsiębiorców wskazało, że pracownicy wykonują pracę zgodną z ich zawod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1"/>
          <a:stretch/>
        </p:blipFill>
        <p:spPr>
          <a:xfrm>
            <a:off x="1214280" y="1928880"/>
            <a:ext cx="6669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anie osób w szczególnej sytuacji </a:t>
            </a:r>
            <a:br>
              <a:rPr sz="3200"/>
            </a:b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na rynku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61E7-0D8F-4B69-84E2-6048DA826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ole tekstowe 6"/>
          <p:cNvSpPr/>
          <p:nvPr/>
        </p:nvSpPr>
        <p:spPr>
          <a:xfrm>
            <a:off x="857160" y="2214720"/>
            <a:ext cx="735804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połowa pracodawców potwierdziła, że zatrudnia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ków powyżej 50 roku ży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7% badanych oferuje pracę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obietom po urodzeniu dzieck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Absolwenci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którzy ukończyli szkołę w ciągu ostatnich dwóch lat  ora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czniowie i studenc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ą pracownikami prawie co trzeciej badanej fir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1f497d"/>
                </a:solidFill>
                <a:latin typeface="Arial"/>
              </a:rPr>
              <a:t>Zainteresowanie kształceniem pracowników/podnoszeniem ich kwalifikacji poprzez szkole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300E-7207-468E-97FB-D1EA37DC6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1100160" y="2071800"/>
            <a:ext cx="7089840" cy="3214440"/>
          </a:xfrm>
          <a:prstGeom prst="rect">
            <a:avLst/>
          </a:prstGeom>
          <a:ln w="0">
            <a:noFill/>
          </a:ln>
        </p:spPr>
      </p:pic>
      <p:sp>
        <p:nvSpPr>
          <p:cNvPr id="560" name="pole tekstowe 7"/>
          <p:cNvSpPr/>
          <p:nvPr/>
        </p:nvSpPr>
        <p:spPr>
          <a:xfrm>
            <a:off x="714240" y="557208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wie połowa badanych wyraża zainteresowanie podnoszeniem kwalifikacji swoich pracowników poprzez szkol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dotychczasowych szkoleń pracownicz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6354-0170-4BD2-8377-82E4D6589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857160" y="1785960"/>
            <a:ext cx="7286760" cy="3278160"/>
          </a:xfrm>
          <a:prstGeom prst="rect">
            <a:avLst/>
          </a:prstGeom>
          <a:ln w="0">
            <a:noFill/>
          </a:ln>
        </p:spPr>
      </p:pic>
      <p:sp>
        <p:nvSpPr>
          <p:cNvPr id="564" name="pole tekstowe 7"/>
          <p:cNvSpPr/>
          <p:nvPr/>
        </p:nvSpPr>
        <p:spPr>
          <a:xfrm>
            <a:off x="714240" y="528624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tematyki, dotychczas organizowanych szkoleń, dominowały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szkolenia BHP, szkolenia z zakresu sprzedaży i obsługi klienta, administracyjno-biurowe oraz szkolenia zawodowe i specjalist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1f497d"/>
                </a:solidFill>
                <a:latin typeface="Arial"/>
              </a:rPr>
              <a:t>Metodologia bad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78552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Badanie zostało zrealizowane w okresie od października do listopada 2010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  <a:ea typeface="Arial"/>
              </a:rPr>
              <a:t>Techniki i narzędzia badawcz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danych zasta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ywiady kwestionariuszow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 przedstawicielami 500 przedsiębiorstw z powiatu olsztyńskieg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Indywidualny wywiad pogłębiony (IDI)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 przedstawicielami 30 przedsiębiorstw z powiatu olsztyńskieg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C696-0FD4-4D2A-A371-DF1255EF9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7A71-695E-429E-9A73-A114E3EC2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ole tekstowe 6"/>
          <p:cNvSpPr/>
          <p:nvPr/>
        </p:nvSpPr>
        <p:spPr>
          <a:xfrm>
            <a:off x="1428840" y="1989000"/>
            <a:ext cx="664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Plany przedsiębiorców dotyczące zatrudnie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lokalnego rynku pracy pod kątem dostępności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FE14-EE1B-4066-B6D0-DF6BF245B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ole tekstowe 7"/>
          <p:cNvSpPr/>
          <p:nvPr/>
        </p:nvSpPr>
        <p:spPr>
          <a:xfrm>
            <a:off x="642960" y="1717560"/>
            <a:ext cx="75722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5% przedsiębiorców z powiatu olsztyńskiego wskazało na brak trudności z dostępnością pracowników na lokalnym rynku p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rudności w tym zakresie dostrzega łącznie 29,7% bada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mniejsze problemy ze znalezieniem nowych pracowników mają przedsiębiorstwa związane 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nieruchomościami, organizacje i stowarzyszenia oraz przedsiębiorstwa z branży finansow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e trudności w znalezieniu nowych pracowników pojawiają się w przedsiębiorstwach 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branży motoryzacyjnej oraz w jednostkach służby zdrow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zatrudnieniem pracowników w ciągu kolejny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D42C-DB04-4065-974B-CFC612443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ole tekstowe 7"/>
          <p:cNvSpPr/>
          <p:nvPr/>
        </p:nvSpPr>
        <p:spPr>
          <a:xfrm>
            <a:off x="857160" y="542916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koło 19% objętych badaniem osób stwierdziło, iż planuje w okresie kolejnych dwóch lat przyjąć nowych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1214280" y="1785960"/>
            <a:ext cx="69789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lokalnego rynku pracy pod kątem dostępności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89F0-6CFA-4017-8810-789189FBC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ole tekstowe 7"/>
          <p:cNvSpPr/>
          <p:nvPr/>
        </p:nvSpPr>
        <p:spPr>
          <a:xfrm>
            <a:off x="642960" y="2500200"/>
            <a:ext cx="774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Badani przedsiębiorcy z terenu powiatu olsztyńskiego </a:t>
            </a:r>
            <a:br>
              <a:rPr sz="2000"/>
            </a:b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w większości deklarują, że zatrudniliby więcej pracowników mając wsparcie lokalnych instytucji rynku p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28B4-1F6B-4E1A-AB09-0E50DB1D7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ole tekstowe 7"/>
          <p:cNvSpPr/>
          <p:nvPr/>
        </p:nvSpPr>
        <p:spPr>
          <a:xfrm>
            <a:off x="500040" y="2071800"/>
            <a:ext cx="757224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dawcy, którzy wzięli udział w badaniu najczęściej poszukują pracowników na stanowiska związane z działalnością gastronomiczną, tj.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elnera, barmana, pomoc kuchenną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t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respondentów pojawiła się dość znaczna grupa właścicieli przedsiębiorstw, którzy obecnie poszukują do pracy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robotników oraz wysoko wyspecjalizowanych pracowników w branży budowlanej, np. murarza, operatora wiertn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76CE-ACF1-4DB2-A1A2-F34F68C32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ole tekstowe 7"/>
          <p:cNvSpPr/>
          <p:nvPr/>
        </p:nvSpPr>
        <p:spPr>
          <a:xfrm>
            <a:off x="857160" y="2786040"/>
            <a:ext cx="714384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większym zainteresowaniem ze strony badanych cieszą się osoby z 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wykształceniem średnim zawodowym, zasadniczym zawodowym oraz wyższy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52E6-E1CF-4507-87BA-25498813E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ole tekstowe 7"/>
          <p:cNvSpPr/>
          <p:nvPr/>
        </p:nvSpPr>
        <p:spPr>
          <a:xfrm>
            <a:off x="857160" y="1643040"/>
            <a:ext cx="714384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Arial"/>
              </a:rPr>
              <a:t>Podstawowe wymagania stawiane kandydat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siadanie prawa jazd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8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miejętność obsługi komputer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6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najomości metod sprzedaży bezpośredniej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4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miejętność obsługi maszyn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tokarz, stolarz, etc.) (30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dstawowa wiedza z zakresu księgowości, ekonomii i finansów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28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18D3-0FB0-4927-98FA-139EE01B6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ole tekstowe 7"/>
          <p:cNvSpPr/>
          <p:nvPr/>
        </p:nvSpPr>
        <p:spPr>
          <a:xfrm>
            <a:off x="285840" y="2428920"/>
            <a:ext cx="500040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munikatywno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6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najomość branży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44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ofesjonalizm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powiedzialno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porność na stres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36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ole tekstowe 7"/>
          <p:cNvSpPr/>
          <p:nvPr/>
        </p:nvSpPr>
        <p:spPr>
          <a:xfrm>
            <a:off x="4357800" y="2786040"/>
            <a:ext cx="457200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miejętność szybkiego uczenia się/podnoszenia kwalifikacji zawodowyc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h 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otywacja do pracy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miejętność dobrej organizacji prac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y 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ole tekstowe 7"/>
          <p:cNvSpPr/>
          <p:nvPr/>
        </p:nvSpPr>
        <p:spPr>
          <a:xfrm>
            <a:off x="1071720" y="2071800"/>
            <a:ext cx="6929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Arial"/>
              </a:rPr>
              <a:t>Dodatkowe wymagania stawiane kandydato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zatrudnieniem osób w szczególnej sytuacji na rynku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E2C3-EE65-424E-ADF1-7CBBBF8C7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ole tekstowe 7"/>
          <p:cNvSpPr/>
          <p:nvPr/>
        </p:nvSpPr>
        <p:spPr>
          <a:xfrm>
            <a:off x="785880" y="1785960"/>
            <a:ext cx="75722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połowa przedsiębiorców objętych badaniem nie planuje przyjęć do pracy osób, które znajdują się w szczególnej sytuacji na rynku pra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hęć zatrudnienia w swojej firmie pracownika spośród tej grupy osób wyraża 29% bada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1357200" y="3500280"/>
            <a:ext cx="642960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zwolnień pracowników w ciągu najbliższy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E267-92B0-421B-BFC5-EE23A36B4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ole tekstowe 7"/>
          <p:cNvSpPr/>
          <p:nvPr/>
        </p:nvSpPr>
        <p:spPr>
          <a:xfrm>
            <a:off x="785880" y="207180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Około 4% przedsiębiorców zamierza zwalniać pracowników w ciągu najbliższych dwóch l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ole tekstowe 5"/>
          <p:cNvSpPr/>
          <p:nvPr/>
        </p:nvSpPr>
        <p:spPr>
          <a:xfrm>
            <a:off x="3286080" y="2928960"/>
            <a:ext cx="3024360" cy="1079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czyny planowanych zwolni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załka w dół 6"/>
          <p:cNvSpPr/>
          <p:nvPr/>
        </p:nvSpPr>
        <p:spPr>
          <a:xfrm>
            <a:off x="4572000" y="4000680"/>
            <a:ext cx="431640" cy="144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ole tekstowe 8"/>
          <p:cNvSpPr/>
          <p:nvPr/>
        </p:nvSpPr>
        <p:spPr>
          <a:xfrm>
            <a:off x="928800" y="4429080"/>
            <a:ext cx="60721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lejące dochody przedsiębiorst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miar likwidacji przedsiębiorstwa lub poszczególnych placów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ieczność redukcji zatrudni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gaśnięcie umowy staż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ow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CEA0-5CA9-45EB-9CA9-E878CB31D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ole tekstowe 6"/>
          <p:cNvSpPr/>
          <p:nvPr/>
        </p:nvSpPr>
        <p:spPr>
          <a:xfrm>
            <a:off x="714240" y="2143080"/>
            <a:ext cx="7715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Ogólna charakterystyka przedsiębiorstw biorących udział w badani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4B93-102C-4A4C-A19A-547DEE5E4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ole tekstowe 9"/>
          <p:cNvSpPr/>
          <p:nvPr/>
        </p:nvSpPr>
        <p:spPr>
          <a:xfrm>
            <a:off x="1214280" y="1989000"/>
            <a:ext cx="6715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Współpraca z Urzędem Pracy Powiatu Olsztyńskie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ziom wiedzy na temat oferowanych przez Urząd form wspar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8385-5B54-4143-BA3E-6370F17F6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ole tekstowe 7"/>
          <p:cNvSpPr/>
          <p:nvPr/>
        </p:nvSpPr>
        <p:spPr>
          <a:xfrm>
            <a:off x="785880" y="2071800"/>
            <a:ext cx="75722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zedsiębiorcy posiadający w swojej ocenie dobrą wiedzę na temat wsparcia udzielanego przez Urząd Pracy Powiatu Olsztyńskiego stanowią 23% ogółu badany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ardzo dobrze w tej kwestii orientuje się 8,3% przedstawicieli przedsiębiorst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ole tekstowe 8"/>
          <p:cNvSpPr/>
          <p:nvPr/>
        </p:nvSpPr>
        <p:spPr>
          <a:xfrm>
            <a:off x="1071720" y="4214880"/>
            <a:ext cx="72864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Źródła wiedz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edia i prasa (32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cy urzędu (31,6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ternet (29,5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Współpraca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943A-DD64-4BC2-BFBF-602E2944C1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2" descr=""/>
          <p:cNvPicPr/>
          <p:nvPr/>
        </p:nvPicPr>
        <p:blipFill>
          <a:blip r:embed="rId1"/>
          <a:stretch/>
        </p:blipFill>
        <p:spPr>
          <a:xfrm>
            <a:off x="1428840" y="1785960"/>
            <a:ext cx="6357960" cy="3027240"/>
          </a:xfrm>
          <a:prstGeom prst="rect">
            <a:avLst/>
          </a:prstGeom>
          <a:ln w="0">
            <a:noFill/>
          </a:ln>
        </p:spPr>
      </p:pic>
      <p:sp>
        <p:nvSpPr>
          <p:cNvPr id="610" name="pole tekstowe 6"/>
          <p:cNvSpPr/>
          <p:nvPr/>
        </p:nvSpPr>
        <p:spPr>
          <a:xfrm>
            <a:off x="571680" y="4857840"/>
            <a:ext cx="764352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zyczyny braku współpra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trudnianie nowych pracownik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Mała aktywność działań podejmowanych przez Urzą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cza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Fragmentarycznej wiedzy na temat dostępnych form wspar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Formy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955E-9D23-4966-A664-E34B7F206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ole tekstowe 6"/>
          <p:cNvSpPr/>
          <p:nvPr/>
        </p:nvSpPr>
        <p:spPr>
          <a:xfrm>
            <a:off x="642960" y="2500200"/>
            <a:ext cx="7643880" cy="26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częstszą formą wsparcia ze strony Urzędu, z której korzystają przedsiębiorcy są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 staże, dofinansowania do stanowiska pracy oraz pośrednictwo pra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wielu wypadkach współpraca ta opiera się również na pracach interwencyjnych oraz pomocy w poszukiwaniu pracownik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F7E0-63B8-48A9-96AF-F300941E0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ole tekstowe 6"/>
          <p:cNvSpPr/>
          <p:nvPr/>
        </p:nvSpPr>
        <p:spPr>
          <a:xfrm>
            <a:off x="642960" y="1857240"/>
            <a:ext cx="764388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Ponad 86% badanych twierdzi, że z Urzędem współpracuje się dobrze albo bardzo dobrz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214280" y="3214800"/>
            <a:ext cx="66754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269A-46C2-462E-938F-393017BD8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ole tekstowe 6"/>
          <p:cNvSpPr/>
          <p:nvPr/>
        </p:nvSpPr>
        <p:spPr>
          <a:xfrm>
            <a:off x="714240" y="5286240"/>
            <a:ext cx="764388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ogólnej ocenie ponad 3/4 przedsiębiorców współpracujących z Urzędem Pracy jest zadowolonych z pozyskanych dzięki tej współpracy pracowników</a:t>
            </a: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2" descr=""/>
          <p:cNvPicPr/>
          <p:nvPr/>
        </p:nvPicPr>
        <p:blipFill>
          <a:blip r:embed="rId1"/>
          <a:stretch/>
        </p:blipFill>
        <p:spPr>
          <a:xfrm>
            <a:off x="1000080" y="2000160"/>
            <a:ext cx="72230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2B57-F276-4F52-AC17-1BB461A02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ole tekstowe 6"/>
          <p:cNvSpPr/>
          <p:nvPr/>
        </p:nvSpPr>
        <p:spPr>
          <a:xfrm>
            <a:off x="857160" y="1428840"/>
            <a:ext cx="764388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ocenie ponad jednej trzeciej przedsiębiorców z powiatu olsztyńskiego 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stopień skomplikowania procedur oraz dokumentacji stosowanych przez Urząd jest nis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2" descr=""/>
          <p:cNvPicPr/>
          <p:nvPr/>
        </p:nvPicPr>
        <p:blipFill>
          <a:blip r:embed="rId1"/>
          <a:stretch/>
        </p:blipFill>
        <p:spPr>
          <a:xfrm>
            <a:off x="1357200" y="3071880"/>
            <a:ext cx="7000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współpracą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1529-9C54-4939-84D6-561748098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ole tekstowe 6"/>
          <p:cNvSpPr/>
          <p:nvPr/>
        </p:nvSpPr>
        <p:spPr>
          <a:xfrm>
            <a:off x="785880" y="2357280"/>
            <a:ext cx="764388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ski stopień skomplikowania procedur stosowanych przez Urząd Pracy Powiatu Olsztyńskiego może mieć pozytywny wpływ na chęć podejmowania współpracy z Urzędem również przez podmioty, które do tej pory nie korzystały z jego wspar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współpracą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8291-3B23-4552-851F-E95737751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ole tekstowe 5"/>
          <p:cNvSpPr/>
          <p:nvPr/>
        </p:nvSpPr>
        <p:spPr>
          <a:xfrm>
            <a:off x="2428920" y="1928880"/>
            <a:ext cx="4000320" cy="107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ferowane formy współpracy z Urzęd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ole tekstowe 11"/>
          <p:cNvSpPr/>
          <p:nvPr/>
        </p:nvSpPr>
        <p:spPr>
          <a:xfrm>
            <a:off x="1071720" y="3357720"/>
            <a:ext cx="664344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aże (43,3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efundacja kosztów doposażenia lub wyposażenia stanowiska pracy dla skierowanego bezrobotnego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ganizacja przygotowania zawodowego dla dorosłych (19,3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ace interwencyjne (15,2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załka w dół 13"/>
          <p:cNvSpPr/>
          <p:nvPr/>
        </p:nvSpPr>
        <p:spPr>
          <a:xfrm>
            <a:off x="4286160" y="3000240"/>
            <a:ext cx="432000" cy="14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dsumow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74BD-6457-4196-B3EA-D1DFBCDBD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ole tekstowe 11"/>
          <p:cNvSpPr/>
          <p:nvPr/>
        </p:nvSpPr>
        <p:spPr>
          <a:xfrm>
            <a:off x="857160" y="2143080"/>
            <a:ext cx="707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ak wynika z przeprowadzonego badania powiat olsztyński ma predyspozycję do rozwoju oraz wchłonięcia nowej siły roboczej. Istotne jest jednak nawiązanie ścisłej współpracy pracodawców z pracownikami  Urzędu Pracy Powiatu Olsztyńskiego, co pozwoli na dobór instrumentów i usług rynku pracy, które sprawią, iż osoby bezrobotne staną się bardziej atrakcyjne dla potencjalnych pracodawc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gólna charakterystyka przedsiębiorstw biorących udział w badan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84D2-FD20-4974-8C9D-BF3F7591A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ole tekstowe 6"/>
          <p:cNvSpPr/>
          <p:nvPr/>
        </p:nvSpPr>
        <p:spPr>
          <a:xfrm>
            <a:off x="357120" y="2143080"/>
            <a:ext cx="856944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ększość z badanych przedsiębiorstw powstało w ostatnich pięciu bądź dziesięciu l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adaniem objęto jednostki, których siedziba znajdowała się na terenie powiatu olsztyńskiego lub też, których siedziba zlokalizowana na tym terenie posiadała samodzielną politykę personaln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a ich liczba znajduje się w mieście Biskupiec oraz Barczewo (w sumie ponad 42%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uczestników badania (63% jednostek) stanowiły osoby fizyczne prowadzące działalność gospodarcz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3"/>
          <p:cNvSpPr/>
          <p:nvPr/>
        </p:nvSpPr>
        <p:spPr>
          <a:xfrm>
            <a:off x="3419640" y="5589720"/>
            <a:ext cx="31557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Berlin Sans FB Demi"/>
              </a:rPr>
              <a:t>www.bio</a:t>
            </a:r>
            <a:r>
              <a:rPr b="0" lang="pl-PL" sz="2000" spc="-1" strike="noStrike">
                <a:solidFill>
                  <a:srgbClr val="c00000"/>
                </a:solidFill>
                <a:latin typeface="Berlin Sans FB Demi"/>
              </a:rPr>
              <a:t>s</a:t>
            </a:r>
            <a:r>
              <a:rPr b="0" lang="pl-PL" sz="2000" spc="-1" strike="noStrike">
                <a:solidFill>
                  <a:srgbClr val="000000"/>
                </a:solidFill>
                <a:latin typeface="Berlin Sans FB Demi"/>
              </a:rPr>
              <a:t>tat.com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76092"/>
                </a:solidFill>
                <a:latin typeface="Arial"/>
              </a:rPr>
              <a:t>Dziękujemy za uwag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2" descr="BioStat - Logo"/>
          <p:cNvPicPr/>
          <p:nvPr/>
        </p:nvPicPr>
        <p:blipFill>
          <a:blip r:embed="rId1"/>
          <a:stretch/>
        </p:blipFill>
        <p:spPr>
          <a:xfrm>
            <a:off x="3500280" y="5229360"/>
            <a:ext cx="2224080" cy="360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3" descr=""/>
          <p:cNvPicPr/>
          <p:nvPr/>
        </p:nvPicPr>
        <p:blipFill>
          <a:blip r:embed="rId2"/>
          <a:stretch/>
        </p:blipFill>
        <p:spPr>
          <a:xfrm>
            <a:off x="0" y="0"/>
            <a:ext cx="2800440" cy="1357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5" descr="UE+EFS_L-kolor"/>
          <p:cNvPicPr/>
          <p:nvPr/>
        </p:nvPicPr>
        <p:blipFill>
          <a:blip r:embed="rId3"/>
          <a:stretch/>
        </p:blipFill>
        <p:spPr>
          <a:xfrm>
            <a:off x="6659640" y="404640"/>
            <a:ext cx="209844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sięg terytorialny przedsiębiorstw biorących udział w badan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8653-FC41-42A8-ADC3-661E07D85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tretch/>
        </p:blipFill>
        <p:spPr>
          <a:xfrm>
            <a:off x="1357200" y="2071800"/>
            <a:ext cx="6429600" cy="2990880"/>
          </a:xfrm>
          <a:prstGeom prst="rect">
            <a:avLst/>
          </a:prstGeom>
          <a:ln w="0">
            <a:noFill/>
          </a:ln>
        </p:spPr>
      </p:pic>
      <p:sp>
        <p:nvSpPr>
          <p:cNvPr id="482" name="pole tekstowe 6"/>
          <p:cNvSpPr/>
          <p:nvPr/>
        </p:nvSpPr>
        <p:spPr>
          <a:xfrm>
            <a:off x="1000080" y="5429160"/>
            <a:ext cx="67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większy odsetek badanych przedsiębiorstw - 58% - obejmuje swoim zasięgiem działania biznesowego obszar powia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zatrudnienia w badanych przedsiębiorstw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0E75-5792-4022-AEB6-B926F15E80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ole tekstowe 6"/>
          <p:cNvSpPr/>
          <p:nvPr/>
        </p:nvSpPr>
        <p:spPr>
          <a:xfrm>
            <a:off x="1000080" y="1928880"/>
            <a:ext cx="6786720" cy="42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adra zarządzając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stępuje w prawie 40% badanych firm, jednakże w znacznej części przedsiębiorstw do tego grona zaliczał się właściciel, bądź współwłaściciel fir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 względu na duży udział firm o charakterze handlowo-usługowym w przypadku połowy badanych przedsiębiorstw zatrudnieni są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usług osobistych oraz sprze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adra specjalistów oraz pracowników biurowych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stępuje w około jednej trzeciej badanych jednost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pracujący przy pracach prostych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trudnieni są w 40% badanych fi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wiekowa zatrudnionych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B1E9-AAED-4B73-95D9-4226C100C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ole tekstowe 6"/>
          <p:cNvSpPr/>
          <p:nvPr/>
        </p:nvSpPr>
        <p:spPr>
          <a:xfrm>
            <a:off x="1000080" y="1928880"/>
            <a:ext cx="678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cy w wieku pomiędzy 25 a 34 lat dominują w 37% badanych przedsiębiorstw. Prawie jedna piąta odpowiedzi wskazywała na przedział pomiędzy 35-44 lat jako dominujący wiek zatrudnionych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1428840" y="3279600"/>
            <a:ext cx="63691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Dominująca forma zatrudni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52CE-4BF5-495F-90EA-E96AB31AB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ole tekstowe 6"/>
          <p:cNvSpPr/>
          <p:nvPr/>
        </p:nvSpPr>
        <p:spPr>
          <a:xfrm>
            <a:off x="1000080" y="1928880"/>
            <a:ext cx="678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onad połowie badanych przedsiębiorstw z powiatu olsztyńskiego dominującym rodzajem umowy jest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a na czas nieokreślo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1357200" y="3286080"/>
            <a:ext cx="64501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0:37:49Z</dcterms:created>
  <dc:creator>mszkarlat BioStat</dc:creator>
  <dc:description/>
  <dc:language>en-US</dc:language>
  <cp:lastModifiedBy>Michal</cp:lastModifiedBy>
  <dcterms:modified xsi:type="dcterms:W3CDTF">2010-12-12T15:17:50Z</dcterms:modified>
  <cp:revision>356</cp:revision>
  <dc:subject/>
  <dc:title>Badanie ewaluacyjne  projektu systemowego  „Cel – praca”</dc:title>
</cp:coreProperties>
</file>